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205-2BF6-4E6E-9BD2-77C2D238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947-0EB5-4662-9584-34123AC2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E21-C0F0-4D68-8193-8AFAEB5B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B90-2D39-425B-A36D-537F7A31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D15-AEED-4208-836F-818AF9FD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3C9-C4DF-479E-B58A-AA38E15E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9B3-226C-45DE-A118-D936E383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A83-9694-4F83-BD86-711C9F85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110-3FDA-499E-8F01-0C1891A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859-EA65-42A6-8517-AE2BB8AF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BB3-48FB-4608-AB52-B82CE2B5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8FA-FD63-44F9-96D2-A61D88E2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0660B002-3DEB-47F7-8BB1-F55C086E9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oktoberfest.de/en/" TargetMode="External"/><Relationship Id="rId3" Type="http://schemas.openxmlformats.org/officeDocument/2006/relationships/hyperlink" Target="http://www.ofest.com/history.html" TargetMode="External"/><Relationship Id="rId4" Type="http://schemas.openxmlformats.org/officeDocument/2006/relationships/hyperlink" Target="http://www.vistawide.com/german/oktoberfest/oktoberfest.htm" TargetMode="External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ktoberfes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worlds largest beerf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nnually held in Munich Ger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vent can bring over 450 million euros to coffers each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rgest Oktoberfest celebration in the US is held in Zinzinnati Oh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oktoberfest.de/en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ofest.com/history.htm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had both information and the picture of the 1810 Oktoberfe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vistawide.com/german/oktoberfest/oktoberfest.ht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had both information and the picture of the event and be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toberfest started in 181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estival was celebrated on October 12 for the marriage of Bavarian Crown Prince Ludwig to the Saxon-Hildburghausen Princess There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estival was held over 5 days in front of the gates of Muni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3280" y="2616120"/>
            <a:ext cx="442584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ven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 events in 1810 were Horse r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many amusement rides setup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estival starts when at noon the mayor of Munich drives a wooden tap into a beer barrel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181480" y="1771560"/>
            <a:ext cx="441972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ood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food is Hend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dl is a whole chicken grilled on a sp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t of meat is found at the Oktoberfest the most common is p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t of different desserts are off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esserts consist of sugar-glazed almonds, cotton candy, glazed fruit, ice cream, and ginger bread men with slogans in icing written on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e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beverage and most well known at Oktoberf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er is called März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stronger and darker than traditional be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an contain up to 6% alcoh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er must be brewed according to strict German standards called Reinheitsgebo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686800" y="3657600"/>
            <a:ext cx="1143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usic is typically folk, polkas, and marc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only is folk music found here there can also be popular music from around the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will link arms and sway back and fo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evening goes on the music can get louder and lou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ktoberfest Peopl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Graph shows that people visit an Oktoberfest site a lot more around Oktoberfest that do not usually visit the si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6858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common meat consum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 Be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P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: Pol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common type of bever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 W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: Be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swer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type of meat consumed is por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type of beverage is Be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3:24:45Z</dcterms:created>
  <dc:creator>Austin  Averett</dc:creator>
  <dc:description>General introduction of a new product taking customer wishes into account</dc:description>
  <dc:language>en-US</dc:language>
  <cp:lastModifiedBy>Austin  Averett</cp:lastModifiedBy>
  <dcterms:modified xsi:type="dcterms:W3CDTF">2011-10-27T01:36:44Z</dcterms:modified>
  <cp:revision>3</cp:revision>
  <dc:subject/>
  <dc:title>Introducing a New Product</dc:title>
</cp:coreProperties>
</file>